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C2F-59F5-496B-837A-62D62508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1CA-2A0A-4D62-BBBD-FB3B9F7B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ECE-AD1A-467A-B6D2-97E0BF03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17A-E5CE-425C-B9A2-2E114149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E1A-4B5B-4193-8D39-5CDA3051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BC8-C19A-4C4E-883A-1A07E0E1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76B-DF93-4ABA-AF69-CF709382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AAE-7D1A-49EC-AAB7-9C61FF86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C16-9E4C-4998-A7FB-63956F0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4D5-AE0C-4F5F-B484-15D8320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0ED-8BD1-4146-97C3-D9041CFB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719-6AB9-46A1-AC95-1326B9C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BC83-F01B-4BE1-9B90-11A97CD3B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03280" y="4724280"/>
            <a:ext cx="669780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060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Snap ITC"/>
              </a:rPr>
              <a:t>HO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0606"/>
                  </a:gs>
                  <a:gs pos="100000">
                    <a:srgbClr val="ff6600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00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89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260280"/>
            <a:ext cx="79200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 a friend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be kind and nice to you no mean and not 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not talk about you behind your 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help you when your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 3  qualities your  most admire in a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are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don’t be mean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don’t lie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e060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89000"/>
            <a:ext cx="813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2 or 3 closest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Riki-l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az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Madd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41720"/>
            <a:ext cx="907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 attracted you to form friendship with these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Because they were nice to me and they would not be mean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nd when they wonted to be friends I thought that they  would be som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cc3399"/>
            </a:gs>
            <a:gs pos="100000">
              <a:srgbClr val="99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3360"/>
            <a:ext cx="83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activities do you share with your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e don’t share now activities with each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e just talk a lot and sit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565360"/>
            <a:ext cx="86407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 you confide in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No but some times they can be really bor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do m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404640"/>
            <a:ext cx="87138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y is it or is not a good idea to confide in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Because they might lave you beh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Or not be your friend and when you have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will jus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Your 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do you really like about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are c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lie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028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don’t you like about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be mean to me some tim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play with me some 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nd called me names that I don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o are your  best friends w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Rikilee she is cool and fun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azmin she is nice and has really good jok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ebbie nice and I can tell her things and she wont tell on 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360" y="2637000"/>
            <a:ext cx="7416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Snap ITC"/>
              </a:rPr>
              <a:t>by doreen mo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0:57:14Z</dcterms:created>
  <dc:creator>room 1</dc:creator>
  <dc:description/>
  <dc:language>en-US</dc:language>
  <cp:lastModifiedBy>room 1</cp:lastModifiedBy>
  <dcterms:modified xsi:type="dcterms:W3CDTF">2009-04-06T02:52:03Z</dcterms:modified>
  <cp:revision>3</cp:revision>
  <dc:subject/>
  <dc:title>Slide 1</dc:title>
</cp:coreProperties>
</file>