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7D69-EE98-4122-AD8E-551E2EFB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608B-6383-425C-B784-8939DC45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578B-90F2-4830-A9CC-6F932F7F2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E986-3766-4686-B482-A811543B2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1FE3-9D48-4EAE-AD0D-2C9EBB78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BD85-A6FF-4020-8B57-904372DD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5374-B497-4796-8965-C96D626B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E432-F5EC-4583-88ED-3DBDA062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4EE9-57F1-4817-A236-6D7F085F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F754-6EDC-4CE0-B1D5-FBE1CC2D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5CB2-D56E-4C3F-841A-6EDE500E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83C3-8B6A-4D85-9904-4C6E22FA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A733-C646-45FA-B804-98C79C399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649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403280" y="4724280"/>
            <a:ext cx="6697800" cy="18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0606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Snap ITC"/>
              </a:rPr>
              <a:t>HO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0606"/>
                  </a:gs>
                  <a:gs pos="100000">
                    <a:srgbClr val="ff6600"/>
                  </a:gs>
                </a:gsLst>
                <a:lin ang="5400000"/>
              </a:gradFill>
              <a:latin typeface="Snap ITC"/>
              <a:ea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ffff00"/>
            </a:gs>
            <a:gs pos="100000">
              <a:srgbClr val="66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18900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260280"/>
            <a:ext cx="792000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What  a friend should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A friend should be kind and nice to you no mean and not nas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A friend should not talk about you behind your ba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A friend should help you when your 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The 3  qualities your  most admire in a fri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They are n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They don’t be mean to 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They don’t lie to 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e0606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189000"/>
            <a:ext cx="8136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2 or 3 closest fri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Riki-l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Tazm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Madd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3141720"/>
            <a:ext cx="9072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What  attracted you to form friendship with these peo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Because they were nice to me and they would not be mean to 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And when they wonted to be friends I thought that they  would be some go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50000">
              <a:srgbClr val="cc3399"/>
            </a:gs>
            <a:gs pos="100000">
              <a:srgbClr val="99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33360"/>
            <a:ext cx="8317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What activities do you share with your fri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We don’t share now activities with each 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We just talk a lot and sit 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2565360"/>
            <a:ext cx="86407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Do you confide in your frie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No but some times they can be really boring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Don’t do mu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9280" y="404640"/>
            <a:ext cx="8713800" cy="62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Why is it or is not a good idea to confide in your frie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Because they might lave you behi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Or not be your friend and when you have someth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They will just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Your fri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What do you really like about your frie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They are c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Fu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Don’t lie to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60280"/>
            <a:ext cx="9144000" cy="62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What don’t you like about your frie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They be mean to me some tim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Don’t play with me some ti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And called me names that I don 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Who are your  best friends wh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Rikilee she is cool and fun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Tazmin she is nice and has really good jok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Debbie nice and I can tell her things and she wont tell on 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4360" y="2637000"/>
            <a:ext cx="741672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Snap ITC"/>
              </a:rPr>
              <a:t>by doreen moh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Snap ITC"/>
              <a:ea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00:57:14Z</dcterms:created>
  <dc:creator>room 1</dc:creator>
  <dc:description/>
  <dc:language>en-US</dc:language>
  <cp:lastModifiedBy>room 1</cp:lastModifiedBy>
  <dcterms:modified xsi:type="dcterms:W3CDTF">2009-04-06T02:52:03Z</dcterms:modified>
  <cp:revision>3</cp:revision>
  <dc:subject/>
  <dc:title>Slide 1</dc:title>
</cp:coreProperties>
</file>