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7871-2BFF-4870-8CBC-84E8BD7E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426-3D7C-4BE4-846C-D937DC70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3022-56F6-43A7-8FF4-440768E6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F59F-E883-4329-8B40-4D06EB95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4CD-9011-4766-8BC5-FC08082E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3A5F-A8CE-4AFB-92A8-8DACAD6D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191C-119E-43D1-ADAB-8A635125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DC14-D07A-47D3-AE48-0605A03B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03BB-08BA-478F-9158-AA496058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92E7-D7EA-4552-BA91-5377AAEB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D689-AA9D-4005-970C-03222313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E5F3-2E85-44E4-9473-954A57C0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8CB6-7D52-420D-B8A7-00E584258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649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03280" y="4724280"/>
            <a:ext cx="6697800" cy="18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0606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Snap ITC"/>
              </a:rPr>
              <a:t>HO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0606"/>
                  </a:gs>
                  <a:gs pos="100000">
                    <a:srgbClr val="ff6600"/>
                  </a:gs>
                </a:gsLst>
                <a:lin ang="5400000"/>
              </a:gradFill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ffff00"/>
            </a:gs>
            <a:gs pos="100000">
              <a:srgbClr val="66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18900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260280"/>
            <a:ext cx="79200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at  a friend should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A friend should be kind and nice to you no mean and not nas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A friend should not talk about you behind your b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A friend should help you when your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 3  qualities your  most admire in a fri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y are n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y don’t be mean to 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y don’t lie to 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e0606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189000"/>
            <a:ext cx="8136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2 or 3 closest fri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Riki-l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azm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Madd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141720"/>
            <a:ext cx="907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at  attracted you to form friendship with these peo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Because they were nice to me and they would not be mean to 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And when they wonted to be friends I thought that they  would be some g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50000">
              <a:srgbClr val="cc3399"/>
            </a:gs>
            <a:gs pos="100000">
              <a:srgbClr val="99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33360"/>
            <a:ext cx="8317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at activities do you share with your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e don’t share now activities with each 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e just talk a lot and sit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2565360"/>
            <a:ext cx="86407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Do you confide in your fri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No but some times they can be really boring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Don’t do mu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404640"/>
            <a:ext cx="87138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y is it or is not a good idea to confide in your fri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Because they might lave you beh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Or not be your friend and when you have somet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y will just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Your fri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at do you really like about your fri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y are c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F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Don’t lie 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60280"/>
            <a:ext cx="91440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at don’t you like about your fri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hey be mean to me some tim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Don’t play with me some ti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And called me names that I don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Who are your  best friends w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Rikilee she is cool and fun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Tazmin she is nice and has really good jok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Snap ITC"/>
              </a:rPr>
              <a:t>Debbie nice and I can tell her things and she wont tell on 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4360" y="2637000"/>
            <a:ext cx="741672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Snap ITC"/>
              </a:rPr>
              <a:t>by doreen moh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0:57:14Z</dcterms:created>
  <dc:creator>room 1</dc:creator>
  <dc:description/>
  <dc:language>en-US</dc:language>
  <cp:lastModifiedBy>room 1</cp:lastModifiedBy>
  <dcterms:modified xsi:type="dcterms:W3CDTF">2009-04-06T02:52:03Z</dcterms:modified>
  <cp:revision>3</cp:revision>
  <dc:subject/>
  <dc:title>Slide 1</dc:title>
</cp:coreProperties>
</file>