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43C6-2FFC-4102-AC02-A915149BD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2AE1-335A-4837-9E49-D9B7C5A34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77C3-E1EE-4909-8DB1-1C011BDE1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5EA3-83F4-4A5D-BFCA-1DE14B222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124F-77E9-43F3-B347-BC58D232E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2B19-E316-4474-8A20-CC97CEBEA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72BF-11C5-4D9E-8B73-B95686A6A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6A69-489F-4AC9-A68C-36F0D5B8E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5FEE-1170-4EAC-90CA-1F81AC871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100E-9B79-4B48-A0D3-D8E875FB6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7E7A-A708-4707-AE9E-D75A84B8A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0F4A-B994-4386-A579-7E48986B0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19B55-692E-4439-8E5D-E11E97BE1F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24000" y="0"/>
            <a:ext cx="96490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403280" y="4724280"/>
            <a:ext cx="6697800" cy="18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e0606"/>
                    </a:gs>
                    <a:gs pos="100000">
                      <a:srgbClr val="ff6600"/>
                    </a:gs>
                  </a:gsLst>
                  <a:lin ang="5400000"/>
                </a:gradFill>
                <a:latin typeface="Snap ITC"/>
              </a:rPr>
              <a:t>HOL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e0606"/>
                  </a:gs>
                  <a:gs pos="100000">
                    <a:srgbClr val="ff6600"/>
                  </a:gs>
                </a:gsLst>
                <a:lin ang="5400000"/>
              </a:gradFill>
              <a:latin typeface="Snap ITC"/>
              <a:ea typeface="Snap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ffff00"/>
            </a:gs>
            <a:gs pos="100000">
              <a:srgbClr val="66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9640" y="189000"/>
            <a:ext cx="720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260280"/>
            <a:ext cx="7920000" cy="53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What  a friend should 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A friend should be kind and nice to you no mean and not nas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A friend should not talk about you behind your ba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A friend should help you when your dow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The 3  qualities your  most admire in a frie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They are n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They don’t be mean to 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They don’t lie to 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e0606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68360" y="189000"/>
            <a:ext cx="8136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2 or 3 closest frie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Riki-l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Tazm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Madds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3141720"/>
            <a:ext cx="9072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What  attracted you to form friendship with these peop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Because they were nice to me and they would not be mean to 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And when they wonted to be friends I thought that they  would be some goo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99"/>
            </a:gs>
            <a:gs pos="50000">
              <a:srgbClr val="cc3399"/>
            </a:gs>
            <a:gs pos="100000">
              <a:srgbClr val="99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33360"/>
            <a:ext cx="83170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What activities do you share with your frie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We don’t share now activities with each oth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We just talk a lot and sit dow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9280" y="2565360"/>
            <a:ext cx="864072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Do you confide in your frien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No but some times they can be really boring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Don’t do mu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79280" y="404640"/>
            <a:ext cx="8713800" cy="62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Why is it or is not a good idea to confide in your frien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Because they might lave you behi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Or not be your friend and when you have someth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They will just 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Your fri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What do you really like about your frien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They are co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N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Fun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Don’t lie to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60280"/>
            <a:ext cx="9144000" cy="62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What don’t you like about your frien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They be mean to me some time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Don’t play with me some tim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And called me names that I don l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Who are your  best friends wh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Rikilee she is cool and fun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Tazmin she is nice and has really good jok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Debbie nice and I can tell her things and she wont tell on 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4360" y="2637000"/>
            <a:ext cx="7416720" cy="24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Snap ITC"/>
              </a:rPr>
              <a:t>by doreen moh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Snap ITC"/>
              <a:ea typeface="Snap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2T00:57:14Z</dcterms:created>
  <dc:creator>room 1</dc:creator>
  <dc:description/>
  <dc:language>en-US</dc:language>
  <cp:lastModifiedBy>room 1</cp:lastModifiedBy>
  <dcterms:modified xsi:type="dcterms:W3CDTF">2009-04-06T02:52:03Z</dcterms:modified>
  <cp:revision>3</cp:revision>
  <dc:subject/>
  <dc:title>Slide 1</dc:title>
</cp:coreProperties>
</file>